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camera.wav" ContentType="audio/x-wav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613D-8D9D-45DC-B8D2-C0164CB3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5B56-16E7-4043-A395-6CB63FDCCE9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CD77-B982-4E35-96F5-D04DBD11C36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97A-CC60-4AC1-8A23-44CC206B01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59A2-8DBC-4389-AF5D-C0BCC0D3F48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F35B-374B-444C-BC39-D9346C2462E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E2C1-D60D-4F00-8AB1-BBC83AB0787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E571-7A28-467E-9D05-F0B665C7025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56D-F5D7-4160-8AC3-1230479D9FE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9A4E-7341-4F96-9085-A0FE69BD476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FD0A-14D7-43C5-B211-19105DDD04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0825-6618-4998-82FC-FF2BB73B57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978-4695-4E1D-80D4-A0DEE2C5052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D326-6103-4017-8412-5A0251A1E8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F0DE-0B6B-491A-A1C3-31AA911880A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1C0-7546-4296-9801-64DAD0EBF21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F31D-DCBF-4C96-A94A-C58C2C87246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B87-CE8B-4619-B105-743FA82E50B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1978-D31C-435A-896A-96E3F83F12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EC3-04AF-45B4-83B5-D5407CE5C0A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90E-4BEE-41D3-AD21-5E5E8304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796-B4EE-49BD-93E2-663D330E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22A-77B2-4157-B398-049B9256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4F3-D1B1-40BB-B86E-10AD2AE0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E8EC-B158-43D0-8D4F-BCA47819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054-1217-4226-8619-8FFAD83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F42-A3EB-467D-BE4E-966EA1C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5C36-1832-4C6A-BC08-C6FA3A5B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3C59-8035-45D9-A9E7-EFA552A1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BEE5-2D77-494D-BD97-332C06AE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45EA-BEED-4831-A2C7-68640725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951-4ACD-4BAB-9182-C8607064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6BA5-1AA3-416A-9C07-0A30B5C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303-701F-46D4-B842-777501B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C5CE-EF4B-4608-BE3B-72F2A8FE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1B5D-93B8-47F1-A23C-1CE3C80C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86DD-C31C-4CFF-A0E8-21383294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F33-D7BC-4117-8AFC-8C9E1943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A5C-56A3-4A2F-9F18-E22CB43E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A3C-7CCF-4D9A-A2A5-C014B63A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F7B-AB32-4654-86B3-D0B698C5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23B-B925-4571-B6D6-F529617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1AB-0AC8-4F9F-A23E-C9899305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59F-FDBC-474E-9E33-D11AC2FB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7CCE-B6C9-434B-8974-D437574979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D730-BBD3-4201-990E-E0EB1F2CFA8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23EC-6A5E-4C26-97F9-AA115536224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2040" y="1782360"/>
            <a:ext cx="60199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br>
              <a:rPr sz="5400"/>
            </a:b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de los verbos</a:t>
            </a:r>
            <a:endParaRPr b="0" lang="en-US" sz="5400" spc="-1" strike="noStrike">
              <a:solidFill>
                <a:srgbClr val="ebd189"/>
              </a:solidFill>
              <a:latin typeface="Comic Sans MS"/>
            </a:endParaRPr>
          </a:p>
        </p:txBody>
      </p:sp>
      <p:pic>
        <p:nvPicPr>
          <p:cNvPr id="110" name="Picture 4" descr="c:\Program Files\Microsoft Office\Clipart\standard\stddir2\bs01054_.wmf"/>
          <p:cNvPicPr/>
          <p:nvPr/>
        </p:nvPicPr>
        <p:blipFill>
          <a:blip r:embed="rId1"/>
          <a:stretch/>
        </p:blipFill>
        <p:spPr>
          <a:xfrm>
            <a:off x="3122640" y="4098960"/>
            <a:ext cx="2973240" cy="2504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2A7-D3D4-4A45-A5F5-E7A84BA224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habl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51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1066680" y="3276720"/>
            <a:ext cx="2936880" cy="3273840"/>
            <a:chOff x="1066680" y="3276720"/>
            <a:chExt cx="2936880" cy="3273840"/>
          </a:xfrm>
        </p:grpSpPr>
        <p:sp>
          <p:nvSpPr>
            <p:cNvPr id="154" name="Text Box 9"/>
            <p:cNvSpPr/>
            <p:nvPr/>
          </p:nvSpPr>
          <p:spPr>
            <a:xfrm>
              <a:off x="1747800" y="5969160"/>
              <a:ext cx="138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habl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55" name="Picture 10" descr="c:\Program Files\Microsoft Office\Clipart\standard\stddir4\pe02546_.wmf"/>
            <p:cNvPicPr/>
            <p:nvPr/>
          </p:nvPicPr>
          <p:blipFill>
            <a:blip r:embed="rId2"/>
            <a:stretch/>
          </p:blipFill>
          <p:spPr>
            <a:xfrm>
              <a:off x="1066680" y="3276720"/>
              <a:ext cx="2936880" cy="268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975-D149-42D5-B0CC-C1C5F8E5C2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67080" y="4114800"/>
            <a:ext cx="239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rabaj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552720" y="4114800"/>
            <a:ext cx="2667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rabaj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60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1066680" y="3200400"/>
            <a:ext cx="2865600" cy="3350160"/>
            <a:chOff x="1066680" y="3200400"/>
            <a:chExt cx="2865600" cy="3350160"/>
          </a:xfrm>
        </p:grpSpPr>
        <p:sp>
          <p:nvSpPr>
            <p:cNvPr id="163" name="Text Box 8"/>
            <p:cNvSpPr/>
            <p:nvPr/>
          </p:nvSpPr>
          <p:spPr>
            <a:xfrm>
              <a:off x="1604520" y="5969160"/>
              <a:ext cx="167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rabaj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64" name="Picture 10" descr="c:\Program Files\Microsoft Office\Clipart\standard\stddir1\bd05153_.wmf"/>
            <p:cNvPicPr/>
            <p:nvPr/>
          </p:nvPicPr>
          <p:blipFill>
            <a:blip r:embed="rId2"/>
            <a:stretch/>
          </p:blipFill>
          <p:spPr>
            <a:xfrm>
              <a:off x="1066680" y="3200400"/>
              <a:ext cx="2865600" cy="27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0DBB-5738-4FB7-8A99-35CAACD144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com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0" name="Picture 10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1219320" y="3200400"/>
            <a:ext cx="2550960" cy="3350160"/>
            <a:chOff x="1219320" y="3200400"/>
            <a:chExt cx="2550960" cy="3350160"/>
          </a:xfrm>
        </p:grpSpPr>
        <p:sp>
          <p:nvSpPr>
            <p:cNvPr id="172" name="Text Box 8"/>
            <p:cNvSpPr/>
            <p:nvPr/>
          </p:nvSpPr>
          <p:spPr>
            <a:xfrm>
              <a:off x="1781640" y="5969160"/>
              <a:ext cx="13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come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73" name="Picture 11" descr="c:\Program Files\Microsoft Office\Clipart\standard\stddir3\fd00784_.wmf"/>
            <p:cNvPicPr/>
            <p:nvPr/>
          </p:nvPicPr>
          <p:blipFill>
            <a:blip r:embed="rId2"/>
            <a:stretch/>
          </p:blipFill>
          <p:spPr>
            <a:xfrm>
              <a:off x="1219320" y="3200400"/>
              <a:ext cx="2550960" cy="2790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A5D9-EE66-4E84-85F4-8BF8E9F89A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volv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volv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volv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olv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olv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olv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9" name="Picture 6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1"/>
          <p:cNvGrpSpPr/>
          <p:nvPr/>
        </p:nvGrpSpPr>
        <p:grpSpPr>
          <a:xfrm>
            <a:off x="1676520" y="2895480"/>
            <a:ext cx="1753920" cy="3655080"/>
            <a:chOff x="1676520" y="2895480"/>
            <a:chExt cx="1753920" cy="3655080"/>
          </a:xfrm>
        </p:grpSpPr>
        <p:sp>
          <p:nvSpPr>
            <p:cNvPr id="181" name="Text Box 8"/>
            <p:cNvSpPr/>
            <p:nvPr/>
          </p:nvSpPr>
          <p:spPr>
            <a:xfrm>
              <a:off x="1810080" y="5969160"/>
              <a:ext cx="125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volve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82" name="Picture 10" descr="c:\Program Files\Microsoft Office\Clipart\corpbas\j0078750.wmf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1753920" cy="3110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6A97-E4A3-4F31-8AF0-6EE4C13B0A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br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93396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6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1"/>
          <p:cNvGrpSpPr/>
          <p:nvPr/>
        </p:nvGrpSpPr>
        <p:grpSpPr>
          <a:xfrm>
            <a:off x="1447920" y="3124080"/>
            <a:ext cx="2212920" cy="3426480"/>
            <a:chOff x="1447920" y="3124080"/>
            <a:chExt cx="2212920" cy="3426480"/>
          </a:xfrm>
        </p:grpSpPr>
        <p:sp>
          <p:nvSpPr>
            <p:cNvPr id="190" name="Text Box 8"/>
            <p:cNvSpPr/>
            <p:nvPr/>
          </p:nvSpPr>
          <p:spPr>
            <a:xfrm>
              <a:off x="1900800" y="5969160"/>
              <a:ext cx="10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bri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191" name="Picture 10" descr="c:\Program Files\Microsoft Office\Clipart\standard\stddir3\hh01298_.wmf"/>
            <p:cNvPicPr/>
            <p:nvPr/>
          </p:nvPicPr>
          <p:blipFill>
            <a:blip r:embed="rId2"/>
            <a:stretch/>
          </p:blipFill>
          <p:spPr>
            <a:xfrm>
              <a:off x="1447920" y="3124080"/>
              <a:ext cx="2212920" cy="28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BF66-CF64-4433-A4B0-72EB14793F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44197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er / -i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19720" y="4114800"/>
            <a:ext cx="213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scribí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scribi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scribi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70536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cribi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cribi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cribie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7" name="Picture 6" descr="c:\Program Files\Microsoft Office\Clipart\standard\stddir1\bd05022_.wmf"/>
          <p:cNvPicPr/>
          <p:nvPr/>
        </p:nvPicPr>
        <p:blipFill>
          <a:blip r:embed="rId1"/>
          <a:stretch/>
        </p:blipFill>
        <p:spPr>
          <a:xfrm>
            <a:off x="7010280" y="228600"/>
            <a:ext cx="1874880" cy="17478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2"/>
          <p:cNvGrpSpPr/>
          <p:nvPr/>
        </p:nvGrpSpPr>
        <p:grpSpPr>
          <a:xfrm>
            <a:off x="1143000" y="3200400"/>
            <a:ext cx="2724120" cy="3350160"/>
            <a:chOff x="1143000" y="3200400"/>
            <a:chExt cx="2724120" cy="3350160"/>
          </a:xfrm>
        </p:grpSpPr>
        <p:sp>
          <p:nvSpPr>
            <p:cNvPr id="199" name="Text Box 8"/>
            <p:cNvSpPr/>
            <p:nvPr/>
          </p:nvSpPr>
          <p:spPr>
            <a:xfrm>
              <a:off x="1682640" y="596916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escribi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0" name="Picture 11" descr="c:\Program Files\Microsoft Office\Clipart\standard\stddir3\pe01756_.wmf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724120" cy="270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AF4-D53D-4FA9-A9CC-6BA61173F3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Verbs ending in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c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</a:t>
            </a: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gar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, and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i="1" lang="es-ES_tradnl" sz="4000" spc="-1" strike="noStrike" u="sng">
                <a:solidFill>
                  <a:srgbClr val="ffffff"/>
                </a:solidFill>
                <a:uFillTx/>
                <a:latin typeface="Comic Sans MS"/>
              </a:rPr>
              <a:t>zar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have a spelling change in 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4038120"/>
            <a:ext cx="6019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r      tocar        practic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r        jugar        lleg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r   empezar   comenzar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70720" y="533520"/>
            <a:ext cx="58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Unos Irregulares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5" name="Picture 6" descr="c:\Program Files\Microsoft Office\Clipart\standard\stddir4\pe02106_.wmf"/>
          <p:cNvPicPr/>
          <p:nvPr/>
        </p:nvPicPr>
        <p:blipFill>
          <a:blip r:embed="rId1"/>
          <a:stretch/>
        </p:blipFill>
        <p:spPr>
          <a:xfrm>
            <a:off x="6743880" y="4795920"/>
            <a:ext cx="2400120" cy="20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mera.wav"/>
      </p:stSnd>
    </p:sndAc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5E5A-4895-4085-9496-8121EFC813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066680" y="380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The “yo” form of the </a:t>
            </a:r>
            <a:r>
              <a:rPr b="0" i="1" lang="es-ES_tradnl" sz="40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changes to conserve the </a:t>
            </a:r>
            <a:r>
              <a:rPr b="0" i="1" lang="es-ES_tradnl" sz="4000" spc="-1" strike="noStrike" u="sng">
                <a:solidFill>
                  <a:srgbClr val="ebd189"/>
                </a:solidFill>
                <a:uFillTx/>
                <a:latin typeface="Comic Sans MS"/>
              </a:rPr>
              <a:t>sound</a:t>
            </a:r>
            <a:r>
              <a:rPr b="0" lang="es-ES_tradnl" sz="4000" spc="-1" strike="noStrike">
                <a:solidFill>
                  <a:srgbClr val="ebd189"/>
                </a:solidFill>
                <a:latin typeface="Comic Sans MS"/>
              </a:rPr>
              <a:t> of the infinitive:</a:t>
            </a:r>
            <a:endParaRPr b="0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600200" y="3505320"/>
            <a:ext cx="2666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c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g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Comic Sans MS"/>
              </a:rPr>
              <a:t>-zar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809880" y="3505320"/>
            <a:ext cx="3124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q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gu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-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095880" y="3505320"/>
            <a:ext cx="190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toc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jug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rezé”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553080" y="3657600"/>
            <a:ext cx="609840" cy="351000"/>
            <a:chOff x="6553080" y="3657600"/>
            <a:chExt cx="609840" cy="351000"/>
          </a:xfrm>
        </p:grpSpPr>
        <p:sp>
          <p:nvSpPr>
            <p:cNvPr id="212" name="Line 7"/>
            <p:cNvSpPr/>
            <p:nvPr/>
          </p:nvSpPr>
          <p:spPr>
            <a:xfrm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H="1">
              <a:off x="6553080" y="365760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4" name="Group 10"/>
          <p:cNvGrpSpPr/>
          <p:nvPr/>
        </p:nvGrpSpPr>
        <p:grpSpPr>
          <a:xfrm>
            <a:off x="6553080" y="4373640"/>
            <a:ext cx="609840" cy="350640"/>
            <a:chOff x="6553080" y="4373640"/>
            <a:chExt cx="609840" cy="350640"/>
          </a:xfrm>
        </p:grpSpPr>
        <p:sp>
          <p:nvSpPr>
            <p:cNvPr id="215" name="Line 11"/>
            <p:cNvSpPr/>
            <p:nvPr/>
          </p:nvSpPr>
          <p:spPr>
            <a:xfrm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 flipH="1">
              <a:off x="6553080" y="4373640"/>
              <a:ext cx="609840" cy="35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6553080" y="4983120"/>
            <a:ext cx="609840" cy="351000"/>
            <a:chOff x="6553080" y="4983120"/>
            <a:chExt cx="609840" cy="351000"/>
          </a:xfrm>
        </p:grpSpPr>
        <p:sp>
          <p:nvSpPr>
            <p:cNvPr id="218" name="Line 14"/>
            <p:cNvSpPr/>
            <p:nvPr/>
          </p:nvSpPr>
          <p:spPr>
            <a:xfrm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6553080" y="4983120"/>
              <a:ext cx="609840" cy="35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1" name="camera.wav"/>
      </p:stSnd>
    </p:sndAc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E288-D451-49C3-BF43-438A68883C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2133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bus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00040" y="411480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us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25" name="Picture 11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3"/>
          <p:cNvGrpSpPr/>
          <p:nvPr/>
        </p:nvGrpSpPr>
        <p:grpSpPr>
          <a:xfrm>
            <a:off x="6408720" y="3124080"/>
            <a:ext cx="2201760" cy="3350160"/>
            <a:chOff x="6408720" y="3124080"/>
            <a:chExt cx="2201760" cy="3350160"/>
          </a:xfrm>
        </p:grpSpPr>
        <p:sp>
          <p:nvSpPr>
            <p:cNvPr id="227" name="Text Box 8"/>
            <p:cNvSpPr/>
            <p:nvPr/>
          </p:nvSpPr>
          <p:spPr>
            <a:xfrm>
              <a:off x="6773400" y="5892840"/>
              <a:ext cx="14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bus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28" name="Picture 12" descr="c:\Program Files\Microsoft Office\Clipart\standard\stddir1\bd05609_.wmf"/>
            <p:cNvPicPr/>
            <p:nvPr/>
          </p:nvPicPr>
          <p:blipFill>
            <a:blip r:embed="rId2"/>
            <a:stretch/>
          </p:blipFill>
          <p:spPr>
            <a:xfrm>
              <a:off x="6408720" y="3124080"/>
              <a:ext cx="2201760" cy="284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F0EE-69B6-4E3A-A86A-15E745277A7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c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q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c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ractic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ractic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34" name="Picture 6" descr="c:\Program Files\Microsoft Office\Clipart\standard\stddir1\bd04974_.wmf"/>
          <p:cNvPicPr/>
          <p:nvPr/>
        </p:nvPicPr>
        <p:blipFill>
          <a:blip r:embed="rId1"/>
          <a:stretch/>
        </p:blipFill>
        <p:spPr>
          <a:xfrm>
            <a:off x="1295280" y="304920"/>
            <a:ext cx="18417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11"/>
          <p:cNvGrpSpPr/>
          <p:nvPr/>
        </p:nvGrpSpPr>
        <p:grpSpPr>
          <a:xfrm>
            <a:off x="6332400" y="3200400"/>
            <a:ext cx="2430720" cy="3273840"/>
            <a:chOff x="6332400" y="3200400"/>
            <a:chExt cx="2430720" cy="3273840"/>
          </a:xfrm>
        </p:grpSpPr>
        <p:sp>
          <p:nvSpPr>
            <p:cNvPr id="236" name="Text Box 8"/>
            <p:cNvSpPr/>
            <p:nvPr/>
          </p:nvSpPr>
          <p:spPr>
            <a:xfrm>
              <a:off x="6648120" y="5892840"/>
              <a:ext cx="181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practic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37" name="Picture 10" descr="c:\Program Files\Common Files\Microsoft Shared\Clipart\cagcat50\PE01686_.wmf"/>
            <p:cNvPicPr/>
            <p:nvPr/>
          </p:nvPicPr>
          <p:blipFill>
            <a:blip r:embed="rId2"/>
            <a:stretch/>
          </p:blipFill>
          <p:spPr>
            <a:xfrm>
              <a:off x="6332400" y="3200400"/>
              <a:ext cx="2430720" cy="264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FA8D-FE17-47C0-B630-71F7846160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72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went to the store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bought a shirt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 Sans MS"/>
              </a:rPr>
              <a:t>I paid in cash.</a:t>
            </a:r>
            <a:endParaRPr b="0" lang="en-US" sz="36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562040" y="22860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El </a:t>
            </a:r>
            <a:r>
              <a:rPr b="0" lang="en-US" sz="5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615680" y="1536840"/>
            <a:ext cx="645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past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tense (“-ed”)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talks about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what happened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s a </a:t>
            </a:r>
            <a:r>
              <a:rPr b="0" lang="en-US" sz="3600" spc="-1" strike="noStrike" u="sng">
                <a:solidFill>
                  <a:srgbClr val="ebd189"/>
                </a:solidFill>
                <a:uFillTx/>
                <a:latin typeface="Comic Sans MS"/>
              </a:rPr>
              <a:t>completed action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ebd189"/>
                </a:solidFill>
                <a:latin typeface="Comic Sans MS"/>
              </a:rPr>
              <a:t>It’s specific!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EBDC-C998-4669-A84C-E00C63DEB3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pa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a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43" name="Picture 10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44" name="Group 12"/>
          <p:cNvGrpSpPr/>
          <p:nvPr/>
        </p:nvGrpSpPr>
        <p:grpSpPr>
          <a:xfrm>
            <a:off x="6400800" y="2971800"/>
            <a:ext cx="2209680" cy="3502440"/>
            <a:chOff x="6400800" y="2971800"/>
            <a:chExt cx="2209680" cy="3502440"/>
          </a:xfrm>
        </p:grpSpPr>
        <p:sp>
          <p:nvSpPr>
            <p:cNvPr id="245" name="Text Box 8"/>
            <p:cNvSpPr/>
            <p:nvPr/>
          </p:nvSpPr>
          <p:spPr>
            <a:xfrm>
              <a:off x="6914520" y="5892840"/>
              <a:ext cx="127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pa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46" name="Picture 11" descr="c:\Program Files\Microsoft Office\Clipart\standard\stddir1\bd04948_.wmf"/>
            <p:cNvPicPr/>
            <p:nvPr/>
          </p:nvPicPr>
          <p:blipFill>
            <a:blip r:embed="rId2"/>
            <a:stretch/>
          </p:blipFill>
          <p:spPr>
            <a:xfrm>
              <a:off x="6400800" y="2971800"/>
              <a:ext cx="2209680" cy="294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4441-7D98-4DBE-B847-7AAC28E37C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g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gu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jug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ug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2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11"/>
          <p:cNvGrpSpPr/>
          <p:nvPr/>
        </p:nvGrpSpPr>
        <p:grpSpPr>
          <a:xfrm>
            <a:off x="6324480" y="3124080"/>
            <a:ext cx="2422800" cy="3350160"/>
            <a:chOff x="6324480" y="3124080"/>
            <a:chExt cx="2422800" cy="3350160"/>
          </a:xfrm>
        </p:grpSpPr>
        <p:sp>
          <p:nvSpPr>
            <p:cNvPr id="254" name="Text Box 8"/>
            <p:cNvSpPr/>
            <p:nvPr/>
          </p:nvSpPr>
          <p:spPr>
            <a:xfrm>
              <a:off x="6977160" y="5892840"/>
              <a:ext cx="115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jug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55" name="Picture 10" descr="c:\Program Files\Microsoft Office\Clipart\standard\stddir1\bd05649_.wmf"/>
            <p:cNvPicPr/>
            <p:nvPr/>
          </p:nvPicPr>
          <p:blipFill>
            <a:blip r:embed="rId2"/>
            <a:stretch/>
          </p:blipFill>
          <p:spPr>
            <a:xfrm>
              <a:off x="6324480" y="3124080"/>
              <a:ext cx="2422800" cy="274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8A3D-1935-44EF-ADDE-82DB0CDA07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almor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lmor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61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11"/>
          <p:cNvGrpSpPr/>
          <p:nvPr/>
        </p:nvGrpSpPr>
        <p:grpSpPr>
          <a:xfrm>
            <a:off x="6172200" y="3962520"/>
            <a:ext cx="2755800" cy="2511720"/>
            <a:chOff x="6172200" y="3962520"/>
            <a:chExt cx="2755800" cy="2511720"/>
          </a:xfrm>
        </p:grpSpPr>
        <p:sp>
          <p:nvSpPr>
            <p:cNvPr id="263" name="Text Box 8"/>
            <p:cNvSpPr/>
            <p:nvPr/>
          </p:nvSpPr>
          <p:spPr>
            <a:xfrm>
              <a:off x="6635520" y="5892840"/>
              <a:ext cx="18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almor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64" name="Picture 10" descr="c:\Program Files\Microsoft Office\Clipart\standard\stddir3\fd00723_.wmf"/>
            <p:cNvPicPr/>
            <p:nvPr/>
          </p:nvPicPr>
          <p:blipFill>
            <a:blip r:embed="rId2"/>
            <a:stretch/>
          </p:blipFill>
          <p:spPr>
            <a:xfrm>
              <a:off x="6172200" y="3962520"/>
              <a:ext cx="27558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B0F0-4CB7-43D9-AA86-E95E33482D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257440" y="1599840"/>
            <a:ext cx="34290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zar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</a:t>
            </a:r>
            <a:r>
              <a:rPr b="0" i="1" lang="es-ES_tradnl" sz="3200" spc="-1" strike="noStrike" u="sng">
                <a:solidFill>
                  <a:srgbClr val="eaeaea"/>
                </a:solidFill>
                <a:uFillTx/>
                <a:latin typeface="Comic Sans MS"/>
              </a:rPr>
              <a:t>c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z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empez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52680" y="4114800"/>
            <a:ext cx="2895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mpez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80492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70" name="Picture 6" descr="c:\Program Files\Microsoft Office\Clipart\standard\stddir1\bd07225_.wmf"/>
          <p:cNvPicPr/>
          <p:nvPr/>
        </p:nvPicPr>
        <p:blipFill>
          <a:blip r:embed="rId1"/>
          <a:stretch/>
        </p:blipFill>
        <p:spPr>
          <a:xfrm>
            <a:off x="1219320" y="341280"/>
            <a:ext cx="2133360" cy="171612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1"/>
          <p:cNvGrpSpPr/>
          <p:nvPr/>
        </p:nvGrpSpPr>
        <p:grpSpPr>
          <a:xfrm>
            <a:off x="6553080" y="3124080"/>
            <a:ext cx="1932120" cy="3350160"/>
            <a:chOff x="6553080" y="3124080"/>
            <a:chExt cx="1932120" cy="3350160"/>
          </a:xfrm>
        </p:grpSpPr>
        <p:sp>
          <p:nvSpPr>
            <p:cNvPr id="272" name="Text Box 8"/>
            <p:cNvSpPr/>
            <p:nvPr/>
          </p:nvSpPr>
          <p:spPr>
            <a:xfrm>
              <a:off x="6676560" y="5892840"/>
              <a:ext cx="175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empez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73" name="Picture 10" descr="c:\Program Files\Microsoft Office\Clipart\standard\stddir1\bd05037_.wmf"/>
            <p:cNvPicPr/>
            <p:nvPr/>
          </p:nvPicPr>
          <p:blipFill>
            <a:blip r:embed="rId2"/>
            <a:stretch/>
          </p:blipFill>
          <p:spPr>
            <a:xfrm>
              <a:off x="6553080" y="3124080"/>
              <a:ext cx="1932120" cy="273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IR Stem-changing Verbs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Verbs that are stem-changing make a spelling change in the Preterite. ONLY in the él/ella/ud. AND ellos/ellas/Uds forms!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2920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orm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ormí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orm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URMIO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orm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DURMI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edir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edí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   ped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ediste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  PIDI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61668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IDIO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4F2C-B7D8-49CA-8D35-D1AA63979A2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Más verbos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or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ori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or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URIO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or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MURI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Prefer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entir(se)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pet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egu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Serv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8F88-265D-40D9-9B55-246CB32AC6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Verbs with I---Y change &amp;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-ucir -- j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66680" y="1676160"/>
            <a:ext cx="3810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s ONLY done in the él/ella/ud AND the ellos/ellas/uds forms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Cree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í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yó  cre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rey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Leer, Oir, Caer,  Incluir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Producir</a:t>
            </a:r>
            <a:endParaRPr b="0" lang="en-US" sz="28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é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iste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ó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imos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Produjeron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Conducir, traducir &amp; introducir</a:t>
            </a:r>
            <a:endParaRPr b="0" lang="en-US" sz="24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823-0D78-4026-AA42-4470AA4407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mic Sans MS"/>
              </a:rPr>
              <a:t>When do you use the Preterite?</a:t>
            </a:r>
            <a:endParaRPr b="0" lang="en-US" sz="40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133720" y="21333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1- Ask yourself 2 questions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For how long? When? (did the action take place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2- </a:t>
            </a: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 use the preterite if you translate the sentence using “used to” 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ohn called me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John used to call me.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EAF-9901-4AAD-8C86-008D781242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Common Key Words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y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la semana pasad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oche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 mes pasad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ta mañana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l año pasado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ta tarde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ce _____ (--ago)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Esta noche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yer por la mañana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4D69-EB37-4690-80A5-26F3C23A55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E2C7-05DE-423E-9C70-3D5BA66E37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The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stem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for regular verbs in the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is the infinitive stem.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a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ab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com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e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beb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br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188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ir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al-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C13-3CAF-41A9-A3DD-DB79CADD225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-a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é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a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a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EFAB-AEFC-423B-B7E8-BFF7ECBCB0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Pretérito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endings for </a:t>
            </a:r>
            <a:r>
              <a:rPr b="0" i="1" lang="en-US" sz="4400" spc="-1" strike="noStrike">
                <a:solidFill>
                  <a:srgbClr val="ebd189"/>
                </a:solidFill>
                <a:latin typeface="Comic Sans MS"/>
              </a:rPr>
              <a:t>–er / -i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 verbs are: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í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ste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               </a:t>
            </a:r>
            <a:r>
              <a:rPr b="0" lang="es-ES_tradnl" sz="4000" spc="-1" strike="noStrike">
                <a:solidFill>
                  <a:srgbClr val="eaeaea"/>
                </a:solidFill>
                <a:latin typeface="Comic Sans MS"/>
              </a:rPr>
              <a:t>-ió     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30480" y="3733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mo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steis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</a:rPr>
              <a:t>-ieron</a:t>
            </a:r>
            <a:endParaRPr b="0" lang="en-US" sz="40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133720" y="3429000"/>
            <a:ext cx="5105160" cy="2971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8B31-328A-443B-BB2A-86921E8CF1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66680" y="30492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Comic Sans MS"/>
              </a:rPr>
              <a:t>REMEMBER</a:t>
            </a:r>
            <a:r>
              <a:rPr b="0" lang="en-US" sz="4400" spc="-1" strike="noStrike">
                <a:solidFill>
                  <a:srgbClr val="ebd18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6" name="Picture 3" descr="c:\Program Files\Microsoft Office\Clipart\standard\stddir2\bs00950_.wmf"/>
          <p:cNvPicPr/>
          <p:nvPr/>
        </p:nvPicPr>
        <p:blipFill>
          <a:blip r:embed="rId1"/>
          <a:stretch/>
        </p:blipFill>
        <p:spPr>
          <a:xfrm>
            <a:off x="6781680" y="228600"/>
            <a:ext cx="2163960" cy="22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905120" y="2698920"/>
            <a:ext cx="5715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ccents on the “yo” form  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and the “él / ella / Ud.”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form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-ar / -ir “nosotros” form is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the same in present and </a:t>
            </a:r>
            <a:r>
              <a:rPr b="0" lang="en-US" sz="3200" spc="-1" strike="noStrike">
                <a:solidFill>
                  <a:srgbClr val="ebd189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ebd189"/>
                </a:solidFill>
                <a:latin typeface="Comic Sans MS"/>
              </a:rPr>
              <a:t>pretéri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 spd="med">
    <p:zoom dir="in"/>
    <p:sndAc>
      <p:stSnd>
        <p:snd r:embed="rId2" name="camera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72D6-6D98-400B-A71F-59938ADFAF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1599840"/>
            <a:ext cx="31240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ebd189"/>
                </a:solidFill>
                <a:latin typeface="Comic Sans MS"/>
              </a:rPr>
              <a:t>(-</a:t>
            </a:r>
            <a:r>
              <a:rPr b="0" i="1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ar </a:t>
            </a:r>
            <a:r>
              <a:rPr b="0" lang="es-ES_tradnl" sz="4400" spc="-1" strike="noStrike" u="sng">
                <a:solidFill>
                  <a:srgbClr val="ebd189"/>
                </a:solidFill>
                <a:uFillTx/>
                <a:latin typeface="Comic Sans MS"/>
              </a:rPr>
              <a:t>verbs)</a:t>
            </a:r>
            <a:endParaRPr b="0" lang="en-US" sz="4400" spc="-1" strike="noStrike">
              <a:solidFill>
                <a:srgbClr val="ebd18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4114800"/>
            <a:ext cx="1935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é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aste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Comic Sans MS"/>
              </a:rPr>
              <a:t>tomó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963840" y="4114800"/>
            <a:ext cx="2179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mo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steis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omaron</a:t>
            </a:r>
            <a:endParaRPr b="0" lang="en-US" sz="3200" spc="-1" strike="noStrike">
              <a:solidFill>
                <a:srgbClr val="eaeaea"/>
              </a:solidFill>
              <a:latin typeface="Comic Sans MS"/>
            </a:endParaRPr>
          </a:p>
        </p:txBody>
      </p:sp>
      <p:pic>
        <p:nvPicPr>
          <p:cNvPr id="142" name="Picture 5" descr="c:\Program Files\Microsoft Office\Clipart\standard\stddir1\bd05012_.wmf"/>
          <p:cNvPicPr/>
          <p:nvPr/>
        </p:nvPicPr>
        <p:blipFill>
          <a:blip r:embed="rId1"/>
          <a:stretch/>
        </p:blipFill>
        <p:spPr>
          <a:xfrm>
            <a:off x="6934320" y="120600"/>
            <a:ext cx="1779480" cy="155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071000" y="533520"/>
            <a:ext cx="42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189"/>
                </a:solidFill>
                <a:latin typeface="Comic Sans MS"/>
              </a:rPr>
              <a:t>Por ejemplo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1447920" y="2971800"/>
            <a:ext cx="1974600" cy="3578760"/>
            <a:chOff x="1447920" y="2971800"/>
            <a:chExt cx="1974600" cy="3578760"/>
          </a:xfrm>
        </p:grpSpPr>
        <p:pic>
          <p:nvPicPr>
            <p:cNvPr id="145" name="Picture 7" descr="c:\Program Files\Microsoft Office\Clipart\standard\stddir1\bd05307_.wmf"/>
            <p:cNvPicPr/>
            <p:nvPr/>
          </p:nvPicPr>
          <p:blipFill>
            <a:blip r:embed="rId2"/>
            <a:stretch/>
          </p:blipFill>
          <p:spPr>
            <a:xfrm>
              <a:off x="1447920" y="2971800"/>
              <a:ext cx="19746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8"/>
            <p:cNvSpPr/>
            <p:nvPr/>
          </p:nvSpPr>
          <p:spPr>
            <a:xfrm>
              <a:off x="1793160" y="596916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bd189"/>
                  </a:solidFill>
                  <a:latin typeface="Comic Sans MS"/>
                </a:rPr>
                <a:t>tomar</a:t>
              </a:r>
              <a:endParaRPr b="0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</p:spTree>
  </p:cSld>
  <p:transition spd="med">
    <p:zoom dir="in"/>
    <p:sndAc>
      <p:stSnd>
        <p:snd r:embed="rId3" name="camera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7T16:42:38Z</dcterms:created>
  <dc:creator>olseng</dc:creator>
  <dc:description/>
  <dc:language>en-US</dc:language>
  <cp:lastModifiedBy>Maple Lake</cp:lastModifiedBy>
  <dcterms:modified xsi:type="dcterms:W3CDTF">2008-09-16T16:30:07Z</dcterms:modified>
  <cp:revision>65</cp:revision>
  <dc:subject/>
  <dc:title>The Preterit</dc:title>
</cp:coreProperties>
</file>